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41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0043-CE90-484A-81F4-EBE3A3A0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4872-033E-48D7-A809-C24BD503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E18-FB82-444E-81A0-8EFEBDE90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5A5-625B-478A-A369-DE685975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C69-A846-4645-BF3C-3AA34269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4B6-2828-4B31-8449-E5FF54CB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B46-FA81-4E81-BF45-BF44785D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514-A649-443D-9ABC-621D0729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29F-726C-4C7D-9E7D-7F8FC144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D3E-AA83-421A-86E6-97A16D1D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897-92D9-44B4-901F-41645484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1602-FD45-480F-ABB9-DDAB9644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D2E1-9846-466E-A37E-FE496B38F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ct scapula and rotate it to depress glenoid cavity; fix scapula to thoracic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s, adducts, and medially rotates humerus; raises body toward arms during climb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inferior pubic ramus, inferior to origin of adductor long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and flexes the thig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margin of pubic symphysis, inferior ramus of pubis, and adjacent ramus of isc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surface of tibial shaft, just posterior to sarto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, adducts the thigh, and helps to medially rotate the tibia on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addbrevis: "/>
          <p:cNvPicPr/>
          <p:nvPr/>
        </p:nvPicPr>
        <p:blipFill>
          <a:blip r:embed="rId1"/>
          <a:stretch/>
        </p:blipFill>
        <p:spPr>
          <a:xfrm>
            <a:off x="6400800" y="0"/>
            <a:ext cx="150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addbrevis: "/>
          <p:cNvPicPr/>
          <p:nvPr/>
        </p:nvPicPr>
        <p:blipFill>
          <a:blip r:embed="rId2"/>
          <a:stretch/>
        </p:blipFill>
        <p:spPr>
          <a:xfrm>
            <a:off x="7162920" y="0"/>
            <a:ext cx="150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body of pubis, just lateral to pubic symph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linea aspera of the femu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and flexes the thigh, and helps to laterally rotate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pubic ra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uteal tuberosity of femur, medial lip of 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vasti: "/>
          <p:cNvPicPr/>
          <p:nvPr/>
        </p:nvPicPr>
        <p:blipFill>
          <a:blip r:embed="rId2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es scapula by drawing it inferiorly and anteriorly against thoracic w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o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terior surfaces and lower borders of transverse processes of L1 - L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tabilize and steady the hip and knee joints by putting tension on the iliotibial band of fa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oes 2 - 5 and dorsi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ucts and medially rotates humerus; draws scapula anteriorl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and medial pectoral nerv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plantar 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plantar flexes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Tert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urface of the base of the fifth metatar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the extensor digitorum longus to dorsiflex, evert and abduct the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aspect of lateral supracondylar line of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1/3 of the posterior calcaneal surface, just medial to Achille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 flexor of ankle; also flexes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terior aspect of interosseous membrane, superior 2/3 of medial posterior surface of fibul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thigh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 the thigh, flexes the knee, and also rotates the tibia medially, especially when the knee is fle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Rectus Abdominis"/>
          <p:cNvPicPr/>
          <p:nvPr/>
        </p:nvPicPr>
        <p:blipFill>
          <a:blip r:embed="rId2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teral third of the inguinal ligament, from the inner lip of the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 ends in front in a broad aponeuros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ress the ribs and viscera, providing thoracic and pelvic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00600" y="1295280"/>
            <a:ext cx="3581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cobrach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of coracoid process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medial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flex and adduct 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es, retracts and rotates scapula; superior fibers elevate, middle fibers retract, and inferior fibers depress scapula; superior and inferior fibers act together in superior rotation of sca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shansel</cp:lastModifiedBy>
  <dcterms:modified xsi:type="dcterms:W3CDTF">2008-09-25T00:27:22Z</dcterms:modified>
  <cp:revision>17</cp:revision>
  <dc:subject/>
  <dc:title>Muscles</dc:title>
</cp:coreProperties>
</file>